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14CBF-07C7-4CCB-ADA1-C71610012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34B4F-C62B-4E04-BE8E-764C2D23C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6CC38-3B89-4F47-8306-662FDDB69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2FA2C-2006-43FC-BE15-DFB62131E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F4AEA-0645-4478-96CF-865021373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F349-9E9C-446D-A4F9-F4D6E166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EE386-E424-47E8-B2CC-1D82A63D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9E0CE-C04F-4979-B0DA-BE36D0C6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C7C14-0642-4FD2-8785-F45E51195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7FB-B54C-4E2C-A351-4344F681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F6A-5F36-4384-A713-0BF82F09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69D-68E9-4F93-94EF-A0A5FBDB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6C1-9F23-42A8-B376-28026EB4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E7F-F9D7-4CE4-85B8-B89F9D88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D86-0523-4500-8CC0-6569E31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740-834C-4EB7-9D81-7805DCF2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C63-2408-4E29-93D6-A0758313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BD2-8C7D-4B9F-BA60-A4F74E6E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3A2-A1FD-457C-B648-3704B6F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35F-55DC-424F-B513-6C1F502C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AED-2001-4C1C-9147-837AF62E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15C01-D0D2-4484-8FB8-1CA5BBC8D3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zation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580760"/>
            <a:ext cx="907092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“mother country” uses political and military force to establish control of territories (“colonies”) beyond its natural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typically have “subordinate” status to the mother country – for example, Hawaii is no longer considered an American colony because it has full state status, but from 1893 to 1954 (when it gained statehood) it was “ruled” as a colony by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cultur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(independence)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inic Lambek</cp:lastModifiedBy>
  <dcterms:modified xsi:type="dcterms:W3CDTF">2013-11-05T00:57:33Z</dcterms:modified>
  <cp:revision>5</cp:revision>
  <dc:subject/>
  <dc:title>Unit 2:  Colonization, Imperialism, and Independence</dc:title>
</cp:coreProperties>
</file>